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jeopardy.wav" ContentType="audio/x-wav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FE8-7244-41DF-BFA7-EC80201D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F3A-6ED9-40B8-B479-2DE08B20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15E-4F10-4F95-9BAC-BD3B7540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DBF6-015B-4943-8738-62A00856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7952-EFBE-4860-A170-F6E1241A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F8B8-8FB8-4A54-9EAC-790F32C2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4BCD-274F-4519-B83C-1D1FD5D6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998C-0FD9-4585-A873-EC95708B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5EB4-F002-42A7-BCA7-1EB404D2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9AF1-065B-4894-AED4-B138B6F1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F5CF-C88D-4ADD-BE48-7FAFCA1F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396-ACF4-42B9-9F88-775BA74F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9240-714E-4219-B473-AB8F1EC9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C80B-7D23-4313-9B7C-B87B0B9F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B209-31BF-4333-A75D-8D5DD073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F276-0280-4516-9F99-C6692925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957F-D082-4E12-B7E4-F6CEBCA2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523-826B-4431-98D9-D437F6FB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7FC-4FD5-4534-81F4-2B314DE8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DBB-E468-44E2-8EDD-B074C28C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EFA-DE04-49F5-A4F8-00164B6F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17A-7A0A-484B-9F83-FC25BA26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BF11-B865-4B9E-9EB9-406815BF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74A-AA2C-40A8-9E6C-222E9A5D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E3DF-5505-4B04-A6AB-F145C33F0DD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33BD-7D61-491D-A58B-045A00380F9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" Target="slide24.xml"/><Relationship Id="rId10" Type="http://schemas.openxmlformats.org/officeDocument/2006/relationships/slide" Target="slide16.xml"/><Relationship Id="rId11" Type="http://schemas.openxmlformats.org/officeDocument/2006/relationships/slide" Target="slide26.xml"/><Relationship Id="rId12" Type="http://schemas.openxmlformats.org/officeDocument/2006/relationships/slide" Target="slide18.xml"/><Relationship Id="rId13" Type="http://schemas.openxmlformats.org/officeDocument/2006/relationships/slide" Target="slide28.xml"/><Relationship Id="rId14" Type="http://schemas.openxmlformats.org/officeDocument/2006/relationships/slide" Target="slide20.xml"/><Relationship Id="rId15" Type="http://schemas.openxmlformats.org/officeDocument/2006/relationships/slide" Target="slide22.xml"/><Relationship Id="rId16" Type="http://schemas.openxmlformats.org/officeDocument/2006/relationships/audio" Target="../media/jeopardy.wav"/><Relationship Id="rId1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158400"/>
            <a:ext cx="8686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How to use the Jeopardy Templat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py the presentation to your hard driv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pen up the game board slide, determine the category of questions you want to construct and substitute the proper text for each categor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llow the order of the slides to construct questions for each category and put the answers for each question in the following slid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lete this slide (slide #1) after you are do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ve the fil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te: You may want to substitute the background graphic for your presentation with an image that is more appropriate for your topi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1532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Question from Category 1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AILY DOUB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77320" y="228600"/>
            <a:ext cx="380880" cy="380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400-question-Category 1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305920" y="6248520"/>
            <a:ext cx="609480" cy="3664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7268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268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32462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Answer from Category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400-question-category 1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Question from Category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500-question-Category 1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32462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Answer from Category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500-question-category 1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Category 2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32462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981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77240" y="2819520"/>
            <a:ext cx="565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category 2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02000" y="2514600"/>
            <a:ext cx="5758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200-question-Category 2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solidFill>
            <a:srgbClr val="c67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32462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200-question-category 2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300-question-Category 2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32462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300-question-category 2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ET’S PLAY JEOPARDY!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76520" y="6102360"/>
            <a:ext cx="6057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400-question-Category 2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32462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218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400-question-category 2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92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" dur="192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8" dur="192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0" dur="192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Question from Category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380880" y="165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500-question-Category 2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32462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645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500-question-category 2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8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3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AILY DOUB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Category 3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8686800" y="6477120"/>
            <a:ext cx="457200" cy="380880"/>
          </a:xfrm>
          <a:prstGeom prst="rect">
            <a:avLst/>
          </a:prstGeom>
          <a:solidFill>
            <a:srgbClr val="c67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8077320" y="6491160"/>
            <a:ext cx="380880" cy="36684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9" dur="7268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8268"/>
                            </p:stCondLst>
                            <p:childTnLst>
                              <p:par>
                                <p:cTn id="4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32462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645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$100 Answer from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tegory 3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category 3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300"/>
                            </p:stCondLst>
                            <p:childTnLst>
                              <p:par>
                                <p:cTn id="4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981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200-question-Category 3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32462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$200 Answer from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tegory 3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200-question-category 3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300"/>
                            </p:stCondLst>
                            <p:childTnLst>
                              <p:par>
                                <p:cTn id="5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300-question-Category 3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8" dur="32462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695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$300 Answer from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tegory 3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300-question-category 3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762120" y="1535040"/>
          <a:ext cx="7775280" cy="46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5040"/>
                    <a:ext cx="777528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838080" y="1523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Category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1523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Category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1523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Category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4240" y="1523880"/>
            <a:ext cx="15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Category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35400" y="15238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Category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0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1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2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3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4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66200" y="632448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80360" y="236520"/>
            <a:ext cx="35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 Rounded MT Bold"/>
              </a:rPr>
              <a:t>Jeopard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400-question-Category 3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1" dur="32462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695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400-question-category 3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8" dur="25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645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500-question-Category 3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1" dur="32462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500-question-category 3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300"/>
                            </p:stCondLst>
                            <p:childTnLst>
                              <p:par>
                                <p:cTn id="6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Question from Category 4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Category 4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3" dur="32462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218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Answer from Category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category 4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Question from Category 4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AILY DOUB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200-question-Category 4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81532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924680" y="6324480"/>
            <a:ext cx="685800" cy="36684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2" dur="7268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8268"/>
                            </p:stCondLst>
                            <p:childTnLst>
                              <p:par>
                                <p:cTn id="7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5" dur="32462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Answer from Category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200-question-category 4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Question from Category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89280" y="32194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300-question-Category 4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6" dur="32462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Answer from Category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300-question-category 4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200"/>
                            </p:stCondLst>
                            <p:childTnLst>
                              <p:par>
                                <p:cTn id="7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Question from Category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8200" y="62485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Category 1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2462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Question from Category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400-question-Category 4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8" dur="32462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Answer from Category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76600" y="2286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400-question-category 4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3200"/>
                            </p:stCondLst>
                            <p:childTnLst>
                              <p:par>
                                <p:cTn id="8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Question from Category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500-question-Category 4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0" dur="32462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Answer from Category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6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500-question-category 4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Question from Category 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416240" y="2590920"/>
            <a:ext cx="705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Mixed Category (5)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1" dur="32462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Answer from Category 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70480" y="2590920"/>
            <a:ext cx="682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mixed category(5)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Question from Category 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16240" y="2590920"/>
            <a:ext cx="705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Mixed Category (5)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0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3" dur="32462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Answer from Category 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70480" y="2590920"/>
            <a:ext cx="682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200-question-mixed category(5)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16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$300 Question from Category 5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16240" y="2590920"/>
            <a:ext cx="705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300-question-Mixed Category (5)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4" dur="32462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874440"/>
            <a:ext cx="822960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Answer from Category 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70480" y="2590920"/>
            <a:ext cx="682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300-question-mixed category(5)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Answer from Category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category 1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9600" cy="15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Question from Category 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16240" y="2590920"/>
            <a:ext cx="705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400-question-Mixed Category (5)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6" dur="32462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$400 Answer from Category 5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70480" y="2590920"/>
            <a:ext cx="682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400-question-mixed category(5)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Question from Category 5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AILY DOUBLE </a:t>
            </a:r>
            <a:br>
              <a:rPr sz="28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16240" y="2590920"/>
            <a:ext cx="705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500-question-Mixed Category (5)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81532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8001000" y="6324480"/>
            <a:ext cx="685800" cy="36684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500"/>
                            </p:stCondLst>
                            <p:childTnLst>
                              <p:par>
                                <p:cTn id="10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9" dur="7268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8268"/>
                            </p:stCondLst>
                            <p:childTnLst>
                              <p:par>
                                <p:cTn id="10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2" dur="32462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45820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$500 Answer from Category 5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70480" y="2590920"/>
            <a:ext cx="682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500-question-mixed category(5)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0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4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4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Final Jeopardy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66320" y="2590920"/>
            <a:ext cx="415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nal Jeopardy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0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6" dur="7268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Final Jeopardy Answer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0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04280" y="2590920"/>
            <a:ext cx="415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nal Jeopardy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0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Question from Category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200-question-Category 1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2462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Answer from Category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200-question-category 1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Question from Category 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300-question-Category 1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32462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Answer from Category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300-question-category 1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21:38:36Z</dcterms:created>
  <dc:creator>Cheryl Diermyer</dc:creator>
  <dc:description/>
  <dc:language>en-US</dc:language>
  <cp:lastModifiedBy>SD#34</cp:lastModifiedBy>
  <dcterms:modified xsi:type="dcterms:W3CDTF">2008-07-15T19:23:57Z</dcterms:modified>
  <cp:revision>74</cp:revision>
  <dc:subject/>
  <dc:title>Slide 1</dc:title>
</cp:coreProperties>
</file>